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AEF-FE02-47D7-B0DD-78EA18CE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BF5-F7D3-4125-AAAF-5311C07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841-2B5D-4711-A0B1-6F03A0D5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2F9-E4BF-46E6-A355-59745669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922-7BB6-43A3-9757-AFDB583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CDA-0183-463D-98D6-E1E77C45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195-07C2-4106-A88E-026DB75F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F47-D503-4314-8C8F-1D98169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CCC-5078-443A-A43B-0435226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CD3-AFC9-4008-A8EB-DF82F5E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924-B842-47E0-8FD2-C5E1A33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512-CE9A-4139-8A64-2A53628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0464-0E66-43A9-87B7-35E2D01F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31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533520" y="0"/>
            <a:ext cx="784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Franklin Gothic Heavy"/>
              </a:rPr>
              <a:t>Another One of Nature’s Beau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4800600"/>
            <a:ext cx="1276200" cy="370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44197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8137440"/>
            <a:ext cx="1843200" cy="100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5181480"/>
            <a:ext cx="38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Each bottle of Fuze                   Refresh has 100%                              of your                           Recommended                               Daily Allowance                                   of essential                               vitamins and                                    bone building                            cal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18432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18:44Z</dcterms:created>
  <dc:creator>WPS</dc:creator>
  <dc:description/>
  <dc:language>en-US</dc:language>
  <cp:lastModifiedBy>WPS</cp:lastModifiedBy>
  <dcterms:modified xsi:type="dcterms:W3CDTF">2008-06-02T13:43:22Z</dcterms:modified>
  <cp:revision>3</cp:revision>
  <dc:subject/>
  <dc:title>Slide 1</dc:title>
</cp:coreProperties>
</file>